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  <p:custShowLst>
    <p:custShow name="Nowy niestandardowy pokaz slajd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7A6-A958-4C30-83EC-18C03B96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79D-5A97-4F84-AE58-522D91E6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83F-5AD2-4FF9-9AB9-6CAC4898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6C2-BEB2-4874-B2BA-B372F723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A17-775F-4584-BF58-EFBA53CB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EC4-4E3A-475F-BC18-607E687B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2F-6403-42DE-B16A-79B71CB1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CDA-D3B2-422E-983C-93A6744B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BAD-83DA-4CC7-B66C-0C3C397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F52-4AE8-44A5-A5F5-ABF57BD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691-564B-48CB-95E4-31AE0E6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C95-A735-4FDB-BAA8-E31B5805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A7386-F28C-4113-BA88-7233389F33B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ien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2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y Ko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łom Dunaj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iszek pieniń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7800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le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a, torfowi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nica torf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żuraw, bocian czarny, żółw błot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0" y="4067280"/>
            <a:ext cx="36003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08200"/>
            <a:ext cx="9036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ztoc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83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ik po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zcza Jod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ła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14800" y="4140360"/>
            <a:ext cx="3624120" cy="34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>kamil tomaszewski</cp:lastModifiedBy>
  <dcterms:modified xsi:type="dcterms:W3CDTF">2010-05-17T13:01:58Z</dcterms:modified>
  <cp:revision>14</cp:revision>
  <dc:subject/>
  <dc:title/>
</cp:coreProperties>
</file>